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073-7B6D-4D19-97D7-53C282D9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FAA-88E9-43AC-A1D2-0CEEF629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4BE-6D31-45F5-9C7A-24ED6F62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D32-B14A-432A-ACC2-DE348C7D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B56-2F2C-4D9E-8D39-05DE9A0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182-61E4-402A-96D4-445D5A49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0EC-970C-42EB-B2C2-22E5057F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2E1-1000-4AF5-B134-0233D204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A1E-BD23-428E-8A81-CBEB47DC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BB3-8D1E-4573-82CB-286D599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F67-B233-4C56-A7B0-CD077AD3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8A8-A03B-4EF0-BA2B-85095F1A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7758-71DC-4445-BD4F-A0F6AB23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S of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77120" y="2819520"/>
            <a:ext cx="1665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80,000 slaves in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captured during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n’t vote or choose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needed permission to have a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aid and could buy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farmhands, did household chores, metalwork, and made po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619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N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rules over a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was head of the most powerful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was passed on to the oldest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relied on nobles to defend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43434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LIG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people hold the power over a large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he government –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-states grew to quickly – food shortages, discontent, poor farmers lost land to wealthy and becam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289320"/>
            <a:ext cx="4419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Y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der who seizes power by force and rules single handedly {dictato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supported, laws are reformed, poor are aided, and taught the citizens by uniting behind a leader they could gain power and mak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 can become harsh and gre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3521160"/>
            <a:ext cx="44197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make decisions was in the hands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proposed new laws, all citizens met every 9 days to vote on laws. Law courts had jurors who made decisions, all citizens rich or poor we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itizens liked sharing power, especially the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K CITIZE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3703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ULT MALE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over 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ather had to have been a citizen and mother’s father had to have been a citizen for you to be a cit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5,000 citizens in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857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VES and CHILDREN of CITIZ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5,000 women and children of citizens in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no politic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uld not ow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176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,000 foreigners in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from other city-states 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n’t vote or hold public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rotected by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usually traders, shopkeepers, craftsmen, or moneyl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72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5:48:14Z</dcterms:created>
  <dc:creator>gehadde</dc:creator>
  <dc:description/>
  <dc:language>en-US</dc:language>
  <cp:lastModifiedBy>gehadde</cp:lastModifiedBy>
  <dcterms:modified xsi:type="dcterms:W3CDTF">2012-05-01T13:12:06Z</dcterms:modified>
  <cp:revision>24</cp:revision>
  <dc:subject/>
  <dc:title>WARM-UP: #4</dc:title>
</cp:coreProperties>
</file>